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861-E844-4803-AD15-7DF55121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B36-146A-4A60-8112-8F09F0C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D1D-9F6E-4679-AE14-3F711B5C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2EA-D73B-4C26-9B2F-D77A8C3F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D0FB-39AB-404C-923D-855DF36C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1AA-A369-44C8-856C-A45E170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47CE-60AB-43C9-9089-08F4E3C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5AB-32AC-4112-9D0C-028CDFAF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51A-303E-425E-B6C6-EA9917C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92EE-2E05-45C0-926A-CFDD035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426B-DEF4-4797-8DE9-773B855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E6B-BD07-423A-963D-66085C8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D30-A071-4099-80B5-BC73526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A05-03A1-4F7C-8EA5-70D5714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F43-7ADB-4EC4-8C6D-2451CCF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5960-AE77-474E-8C30-FDE3B610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4D2-69B9-4168-875B-B8687E5F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8D1-D320-47B8-BE3B-14633347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2BB-9B2F-41CE-9AAA-B7F3FF7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7FD-D237-4807-8EFD-C2CF2C6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F70-A5EF-47F2-A2E6-D226EE0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C1E-9121-4F9D-AEF0-8A2F25E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342-4A6E-4AA3-883B-ED89152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6C2-2711-491D-88A5-355B051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B0E-B591-4B26-9444-36141D81C5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91A-8DE2-499F-8579-79B5DD9058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mhurst.edu/~chm/vchembook/571lockkey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601280" y="304776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ain what is meant by a "lock and key“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chanism found in enzymes?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3733920" y="4114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56" h="21600">
                <a:moveTo>
                  <a:pt x="1162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56" h="21600">
                <a:moveTo>
                  <a:pt x="9051" y="8224"/>
                </a:moveTo>
                <a:lnTo>
                  <a:pt x="12916" y="8224"/>
                </a:lnTo>
                <a:lnTo>
                  <a:pt x="12916" y="15221"/>
                </a:lnTo>
                <a:lnTo>
                  <a:pt x="14204" y="15221"/>
                </a:lnTo>
                <a:lnTo>
                  <a:pt x="14204" y="16144"/>
                </a:lnTo>
                <a:lnTo>
                  <a:pt x="9051" y="16144"/>
                </a:lnTo>
                <a:lnTo>
                  <a:pt x="9051" y="15221"/>
                </a:lnTo>
                <a:lnTo>
                  <a:pt x="10340" y="15221"/>
                </a:lnTo>
                <a:lnTo>
                  <a:pt x="10340" y="9129"/>
                </a:lnTo>
                <a:lnTo>
                  <a:pt x="9051" y="912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23:48Z</dcterms:created>
  <dc:creator>PritchaJ</dc:creator>
  <dc:description/>
  <dc:language>en-US</dc:language>
  <cp:lastModifiedBy>PritchaJ</cp:lastModifiedBy>
  <dcterms:modified xsi:type="dcterms:W3CDTF">2011-06-01T13:26:28Z</dcterms:modified>
  <cp:revision>1</cp:revision>
  <dc:subject/>
  <dc:title>Slide 1</dc:title>
</cp:coreProperties>
</file>